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wmf" ContentType="image/x-wmf"/>
  <Override PartName="/ppt/media/image11.wmf" ContentType="image/x-wmf"/>
  <Override PartName="/ppt/media/image3.png" ContentType="image/png"/>
  <Override PartName="/ppt/media/image15.wmf" ContentType="image/x-wmf"/>
  <Override PartName="/ppt/media/image14.wmf" ContentType="image/x-wmf"/>
  <Override PartName="/ppt/media/image9.wmf" ContentType="image/x-wmf"/>
  <Override PartName="/ppt/media/image2.png" ContentType="image/png"/>
  <Override PartName="/ppt/media/image10.png" ContentType="image/png"/>
  <Override PartName="/ppt/media/image5.wmf" ContentType="image/x-wmf"/>
  <Override PartName="/ppt/media/image6.gif" ContentType="image/gif"/>
  <Override PartName="/ppt/media/image17.wmf" ContentType="image/x-wmf"/>
  <Override PartName="/ppt/media/image7.wmf" ContentType="image/x-wmf"/>
  <Override PartName="/ppt/media/image8.png" ContentType="image/png"/>
  <Override PartName="/ppt/media/image16.wmf" ContentType="image/x-wmf"/>
  <Override PartName="/ppt/media/image12.wmf" ContentType="image/x-wmf"/>
  <Override PartName="/ppt/media/image1.gif" ContentType="image/gif"/>
  <Override PartName="/ppt/media/image4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BDF1-A094-4C98-B4D8-26362EB8B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FA2E-B496-4F2E-B07A-22EF0F81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27D7B-7586-40DC-9E51-4B03A758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8C8F8-371E-44D6-AB44-2CD582DB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7DF5F-2B16-4359-B2AD-59B66E00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6A1A1-0FC9-4A13-B707-2F81D33E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5B78D-2F7E-4A5E-9DB1-FE5D351B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368B1-5BCE-43D2-A8FC-A937FD2B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A64FD-4ED8-45BA-9FB6-63048BB9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3116E-5C38-46AD-83C0-8128EA76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88B063-1E33-4C36-A9E8-FE4A48B5C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D87BF-27BE-423C-82B3-A0690F6E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9B00-A32F-4C39-A0C4-DC1E9D01C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82D26A-325B-4EF9-8E63-E8DA1335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D6EA0-39CD-44A5-BE12-6C1A4CC0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13863-616C-4D4F-8384-1F3CFCBF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C80006-8E88-4E3C-9E17-A23D998A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C082A-29A2-478A-8615-0BBD5302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616F9-ECA1-4375-ACE8-65D03D8A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CB439-F336-4037-BEDB-0D9E4FCF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F9B68-3EAE-4348-8B00-F98E811E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7A658-947B-4BA2-80B2-E19488FE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021D77-7FC5-4F93-9E4F-C37E0CB1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DF27-8D33-4FFE-8139-5000B6B60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1D7FA-C897-4197-AF19-0E514D577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D211F-E4DD-4CC1-8DF8-1D0E3048F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CE10C-D2E2-4D49-8F9E-36AD776E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50105-5E66-4EE3-BB4D-6373DDCD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AAE7B-EBB7-4D4E-AD33-27130A17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A8A2F-F1E4-4C2E-88BA-ABEB1353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8A0B2-76A3-4EAC-A526-43715082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41CC2-4382-4833-B44F-33CCB96B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D7BEE-DB1B-4978-A625-8DD0E955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D71C1-FA26-4B04-952E-B9C90DA5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0571-481C-4D93-B9F2-83DCD8DF7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31198-D28D-4748-B485-46D298F1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2414E-3ABE-4E86-AB32-5850FFA8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66509-CEA5-4C58-A406-A8A29655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893F33-18ED-4384-AAEB-EF1C7EADF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7F3629-59DE-4588-81B5-1EE9C326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10C5E-1D66-47E1-84DF-A916D250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E23155-2C5E-4690-B175-A2825F4D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FBE3EC-DDB5-4D46-A108-95584F0F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89CE48-6BB1-4AAD-AB9C-F34D6B0F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34935-B372-4D81-AF1B-FE0B3442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ED08-E5E5-4F1A-86D6-AA9760C3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83358-1148-463F-93D4-AA3AD593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AF3330-C786-4FC1-8548-96C49CE7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EFF945-9201-4FBE-82DB-CD35AE3A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1F4E58-EC75-4A73-A1C5-22E308C48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F478E2-349E-42FD-B994-A372CF2FB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F29105-31C8-4A38-AC78-1365EAFD6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6B3708-3C80-4514-8646-B54972E5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F72BD3-494E-472A-9593-3D42D75F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669FA2-B955-4949-873F-3F7EA179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C7F094-6AB5-4A4A-9841-C1FF0C9E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6104-FBCB-43FB-BE82-C2E0B014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BB6F1D-C801-47B8-BE6E-BF481BCC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CA6F3F-2E54-4108-BDBC-80C97821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1C5A7E-D09B-41F4-BC65-D8001DB7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EFA658-2871-432E-B25C-4CD31B45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B5C60A-08A2-4447-935A-BB308E0E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13D2BE-938D-456E-AE34-7A07B34B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93C586-9E45-4E7D-8FC5-2B1AF605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B4F6-79E5-4753-9E89-90A22039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717C-F4F1-4DC3-B278-055D6531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D7E6-2CDD-45E2-9D96-6EA710E7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EF3E-5670-479D-A3D5-17753D75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57F9-6254-4095-A4CE-725C0B7E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1E97-7E09-4C5F-92E8-9B27B264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9A21-EBF7-41D7-BE50-76D87144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09B6-1EE7-4525-A6A2-659B2E95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6179-0E97-410B-8A3B-E9546325C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1756-9961-40A7-9BCC-064B0FF75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BAAF8-D40B-438C-9D35-E03FDD9D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53FD0-6784-470B-BF0D-90411C19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9DF04-04AB-41B9-A85F-E22FCF91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A5FB9-FB6A-4D5D-9EC3-0F4D621D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58E2B-DBD8-407D-B87A-FB91B479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C9D4-51EC-42A0-AA88-21019653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E6A36-F868-47E7-920E-1FE94AAB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79772-7C3A-4BAD-AD79-8921B735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0488E-0EB5-440C-A411-F8D2EAD2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8E6B5-9F97-4CCE-9735-43AC009F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0F990-C85F-4CF0-86F6-912805D9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E4811-6643-4327-80E2-B4D12A42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8AB0A-60B9-4F8E-B86C-F94A1CDB2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FC28A-A64C-455B-8CF5-FC5B810C4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239CE-07C5-4F74-8883-6B9945EA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DEDC1-E16C-49FB-A630-7E6B14B5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8220-0536-4A36-AC14-44339EBF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67C7A-82FC-493B-B0BA-C5B00BE6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8ED9C-C71D-48CA-9FA7-30316772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77BCE-5233-49F1-BF38-A21FCA8B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6AC91-9FA8-4F0F-90A6-E1323E4F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99CEB-5B73-4808-91CC-27CB6A55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2FE8D-8E71-46CD-9102-814DE0A7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15403-4516-44DB-8350-C4E788DB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88CC5-BC64-442F-9F0A-D88E7DB8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4F2BD-FBBD-46ED-A6D5-FF95F475B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4B070-74D8-4D62-B2D6-6708C7F61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5CE7-8B47-469A-942F-DBC3E2DC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74BBF-0392-4FCC-9925-01F426E6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5284C-5EAC-4CA4-BA51-8DCD8D8E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0C9E9-404B-4979-B153-7386DB2B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83BC3-B15F-47FC-B065-05A2A851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42D80-90F1-4BAA-B9F2-3ABA7638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3E0D2-6A32-499D-8759-6D89262D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897F0-1FEC-43A9-B2E0-733DEFF7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DB78B-1179-4FD7-A21D-27F84911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A2718-A48A-4010-824B-6CA38F50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0B0EA-E942-4C21-AC0B-3766F2414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E90D-339E-4F3B-AC2B-BD3D6135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1395D-DBC1-4C9F-8C4D-4FB0179F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820D8-3DEF-47B4-AFA1-0454C3B60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3155F-6087-4979-8971-635D2D90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F02E9-37F2-40EC-9CD6-CE6827DD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9D1E0-C280-449A-B285-A5827CA3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0D319-D882-48A8-A350-DDFE4817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644FD-B657-424D-B99C-78DCDA2B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4D9B7-450D-4321-A3A0-C8ADEA2B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1BB6B-4219-4742-B719-C29802BF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9CC5B-43AA-4AC9-BD5E-2F5415B4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4C40-C9A5-42F0-B496-EE69DC76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79C52-35A4-4CCC-AFC2-B89CBC49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FC7E6-8F82-4566-88F1-C9B711862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B9063-F07C-4F6D-8280-FD8AC1ECA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6CF91-4152-4C61-BCEB-4E4579D42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E90CD-4675-42B2-8F70-CDF78895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80EDD-7CCE-47FF-89C5-4FC6E42F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05641-A3F6-43DA-8737-7AC5A366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45B67-FD14-4C40-8464-B3FE307F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6CCF8-47A5-4E33-B305-091770C5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A19B9-1F44-4704-B45C-3921E135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0062-0FE4-4240-9C59-B5105922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F2EF0-8AA6-4ED8-B5FD-BC9A14EF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FBFFE-00B1-44E6-B5AC-88F7F7DC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D5988-6D76-476C-B5C0-3A5A2C85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12FC6-169B-4080-8CD2-B700B8D2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BE614-E39C-4856-88C6-8ABBEF8AA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71355-7152-416F-9B71-74D3CEE5A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CC835-F731-47BD-85E3-5AE1DA6F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F4979-AB40-483B-AD3D-731AD465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F75CE-01D4-40EC-80CC-664337CF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314C3-66F3-4054-9F85-2A288F76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2B89-71BC-465E-A612-0183FE7C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15119-91CA-4CCA-8D4E-20E67001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EE91D-1141-4BB7-B5F1-A48B1657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B1905-217B-43E7-854F-D399941F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D9F93-B61F-4ED1-B53C-A396F4B8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D924A-4294-4040-B2B6-83B0990D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9ED22-294D-47A7-95E4-C9A2EA61E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96961-8692-4916-9650-F2FE54340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B0D569-E855-435C-A5AF-B2EC1EA0B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8767C-626C-4342-8568-9529DC00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2E69B-3CD9-4911-93E8-51BB2B2F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CE91-F4E0-4B95-91C7-03432F4CB7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>
                    <a:gd name="textAreaLeft" fmla="*/ 0 w 803880"/>
                    <a:gd name="textAreaRight" fmla="*/ 804240 w 8038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>
                    <a:gd name="textAreaLeft" fmla="*/ 0 w 1207080"/>
                    <a:gd name="textAreaRight" fmla="*/ 1207440 w 12070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6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6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77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7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7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7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7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7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7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8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78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8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8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8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8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8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8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8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9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9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793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794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79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796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797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98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99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>
                    <a:gd name="textAreaLeft" fmla="*/ 0 w 803880"/>
                    <a:gd name="textAreaRight" fmla="*/ 804240 w 8038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00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>
                    <a:gd name="textAreaLeft" fmla="*/ 0 w 1207080"/>
                    <a:gd name="textAreaRight" fmla="*/ 1207440 w 12070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01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02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03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04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0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F07B-D337-46F4-A72B-238F4F4D3B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5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5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86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6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6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6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6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6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86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6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7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7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7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7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7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7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7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87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7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880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881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88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883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884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85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86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>
                    <a:gd name="textAreaLeft" fmla="*/ 0 w 803880"/>
                    <a:gd name="textAreaRight" fmla="*/ 804240 w 8038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87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>
                    <a:gd name="textAreaLeft" fmla="*/ 0 w 1207080"/>
                    <a:gd name="textAreaRight" fmla="*/ 1207440 w 12070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88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89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90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91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9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686E-561E-4A1D-97B3-42D3DCB15D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3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3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94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4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4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5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5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95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95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5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5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5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5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6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6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6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6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96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6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67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968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96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970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971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72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73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>
                    <a:gd name="textAreaLeft" fmla="*/ 0 w 803880"/>
                    <a:gd name="textAreaRight" fmla="*/ 804240 w 8038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74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>
                    <a:gd name="textAreaLeft" fmla="*/ 0 w 1207080"/>
                    <a:gd name="textAreaRight" fmla="*/ 1207440 w 12070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75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76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77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78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97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3062-7C02-4341-A8A8-BBD605C2C9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02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2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03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3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3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3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3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3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4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4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104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4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4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4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4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4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4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4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5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05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5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054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1055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105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1057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1058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59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60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>
                    <a:gd name="textAreaLeft" fmla="*/ 0 w 803880"/>
                    <a:gd name="textAreaRight" fmla="*/ 804240 w 8038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61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>
                    <a:gd name="textAreaLeft" fmla="*/ 0 w 1207080"/>
                    <a:gd name="textAreaRight" fmla="*/ 1207440 w 12070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62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63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64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65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06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515A-ABB5-4C74-AA27-B9370C1FB4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7FBA-DB70-479D-A165-073630922E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>
                    <a:gd name="textAreaLeft" fmla="*/ 0 w 803880"/>
                    <a:gd name="textAreaRight" fmla="*/ 804240 w 8038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>
                    <a:gd name="textAreaLeft" fmla="*/ 0 w 1207080"/>
                    <a:gd name="textAreaRight" fmla="*/ 1207440 w 12070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13A5-347E-498C-A229-58925F5358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5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5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5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5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5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25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6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6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6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6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6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6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6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6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6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71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272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27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274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275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76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77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>
                    <a:gd name="textAreaLeft" fmla="*/ 0 w 803880"/>
                    <a:gd name="textAreaRight" fmla="*/ 804240 w 8038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78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>
                    <a:gd name="textAreaLeft" fmla="*/ 0 w 1207080"/>
                    <a:gd name="textAreaRight" fmla="*/ 1207440 w 12070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79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0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1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8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668D-4AB7-4439-8A23-8486538E1A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2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2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33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3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4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4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34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4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5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5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5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5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5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5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5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5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5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36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36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36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6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6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>
                    <a:gd name="textAreaLeft" fmla="*/ 0 w 803880"/>
                    <a:gd name="textAreaRight" fmla="*/ 804240 w 8038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6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>
                    <a:gd name="textAreaLeft" fmla="*/ 0 w 1207080"/>
                    <a:gd name="textAreaRight" fmla="*/ 1207440 w 12070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6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6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6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6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7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C8A8-7B9D-49EB-B524-6B0FBD238A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1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1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42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2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2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2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2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3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3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3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43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3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4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4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44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4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4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45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446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4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448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49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0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1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>
                    <a:gd name="textAreaLeft" fmla="*/ 0 w 803880"/>
                    <a:gd name="textAreaRight" fmla="*/ 804240 w 8038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2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>
                    <a:gd name="textAreaLeft" fmla="*/ 0 w 1207080"/>
                    <a:gd name="textAreaRight" fmla="*/ 1207440 w 12070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3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4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5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6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5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7EEB-7210-43FC-AB11-2F2B22ADE1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0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1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1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51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1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1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1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1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1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1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1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52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2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2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2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2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2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2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2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2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52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3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32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533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53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535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536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37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38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>
                    <a:gd name="textAreaLeft" fmla="*/ 0 w 803880"/>
                    <a:gd name="textAreaRight" fmla="*/ 804240 w 8038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39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>
                    <a:gd name="textAreaLeft" fmla="*/ 0 w 1207080"/>
                    <a:gd name="textAreaRight" fmla="*/ 1207440 w 12070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40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41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42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43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4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D511-B460-452A-8001-05ACA3DBE8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8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59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0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0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0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0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0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0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60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0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0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1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1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1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1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1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1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61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1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1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619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620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62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622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623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24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25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>
                    <a:gd name="textAreaLeft" fmla="*/ 0 w 803880"/>
                    <a:gd name="textAreaRight" fmla="*/ 804240 w 8038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26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>
                    <a:gd name="textAreaLeft" fmla="*/ 0 w 1207080"/>
                    <a:gd name="textAreaRight" fmla="*/ 1207440 w 12070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27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28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29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30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3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679E-7A49-468D-B24F-304FD29334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7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7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68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8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8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8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9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9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9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9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69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9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9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9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9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9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0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0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0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0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0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706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707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70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709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710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11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12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>
                    <a:gd name="textAreaLeft" fmla="*/ 0 w 803880"/>
                    <a:gd name="textAreaRight" fmla="*/ 804240 w 8038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13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>
                    <a:gd name="textAreaLeft" fmla="*/ 0 w 1207080"/>
                    <a:gd name="textAreaRight" fmla="*/ 1207440 w 12070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14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15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16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17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71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E9DF-126B-4673-AB6E-BA84C356CD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rspmartin.wikispaces.com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ahoo.com/" TargetMode="External"/><Relationship Id="rId2" Type="http://schemas.openxmlformats.org/officeDocument/2006/relationships/hyperlink" Target="http://www.bing.com/" TargetMode="External"/><Relationship Id="rId3" Type="http://schemas.openxmlformats.org/officeDocument/2006/relationships/hyperlink" Target="http://www.google.com/" TargetMode="External"/><Relationship Id="rId4" Type="http://schemas.openxmlformats.org/officeDocument/2006/relationships/hyperlink" Target="http://www.ask.com/" TargetMode="External"/><Relationship Id="rId5" Type="http://schemas.openxmlformats.org/officeDocument/2006/relationships/hyperlink" Target="http://www.dogpile.com/" TargetMode="External"/><Relationship Id="rId6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eb.mit.edu/invent/iow/bishop.html" TargetMode="External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Sa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9" name="WordArt 4"/>
          <p:cNvSpPr txBox="1"/>
          <p:nvPr/>
        </p:nvSpPr>
        <p:spPr>
          <a:xfrm>
            <a:off x="2362320" y="914400"/>
            <a:ext cx="4647960" cy="28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6th Grad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10" name="Picture 5" descr="crankylibrarian"/>
          <p:cNvPicPr/>
          <p:nvPr/>
        </p:nvPicPr>
        <p:blipFill>
          <a:blip r:embed="rId1"/>
          <a:stretch/>
        </p:blipFill>
        <p:spPr>
          <a:xfrm>
            <a:off x="152280" y="1143000"/>
            <a:ext cx="16891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Create slides for a Microsoft PowerPoint presentation using Internet resourc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26" name="Picture 4" descr="j0232092"/>
          <p:cNvPicPr/>
          <p:nvPr/>
        </p:nvPicPr>
        <p:blipFill>
          <a:blip r:embed="rId1"/>
          <a:stretch/>
        </p:blipFill>
        <p:spPr>
          <a:xfrm>
            <a:off x="0" y="2819520"/>
            <a:ext cx="251136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3"/>
          <p:cNvSpPr/>
          <p:nvPr/>
        </p:nvSpPr>
        <p:spPr>
          <a:xfrm>
            <a:off x="0" y="201600"/>
            <a:ext cx="7848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8" name="Text Box 4"/>
          <p:cNvSpPr/>
          <p:nvPr/>
        </p:nvSpPr>
        <p:spPr>
          <a:xfrm>
            <a:off x="380880" y="1143000"/>
            <a:ext cx="77724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and"/>
                <a:ea typeface="Times New Roman"/>
              </a:rPr>
              <a:t>Create Paint document using a tool palette; edit, save, and insert into Word or PowerPoint documen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129" name="Object 5"/>
          <p:cNvGraphicFramePr/>
          <p:nvPr/>
        </p:nvGraphicFramePr>
        <p:xfrm>
          <a:off x="6019920" y="3352680"/>
          <a:ext cx="16002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3352680"/>
                    <a:ext cx="16002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Create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arious spreadsheets in </a:t>
            </a: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Microsoft Excel enter values,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bels, </a:t>
            </a: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formulas, and crea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 a graph from dat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132" name="Object 4"/>
          <p:cNvGraphicFramePr/>
          <p:nvPr/>
        </p:nvGraphicFramePr>
        <p:xfrm>
          <a:off x="5029200" y="3352680"/>
          <a:ext cx="4114800" cy="224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352680"/>
                    <a:ext cx="4114800" cy="22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4" name=""/>
          <p:cNvGraphicFramePr/>
          <p:nvPr/>
        </p:nvGraphicFramePr>
        <p:xfrm>
          <a:off x="0" y="-1676520"/>
          <a:ext cx="8991720" cy="6326280"/>
        </p:xfrm>
        <a:graphic>
          <a:graphicData uri="http://schemas.openxmlformats.org/drawingml/2006/table">
            <a:tbl>
              <a:tblPr/>
              <a:tblGrid>
                <a:gridCol w="1646280"/>
                <a:gridCol w="1706400"/>
                <a:gridCol w="1660680"/>
                <a:gridCol w="1693800"/>
                <a:gridCol w="228456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Na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d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erio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lay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March hi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April Hi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May Hi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June Hi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8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Baer, Jos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rowley, Pauli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60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Howell, Meg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70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Lagam, Mer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60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harr, Sloa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Sousa, Be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eam 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=SUM(B5:B1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=SUM(C5:C1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=SUM(D5:D1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=SUM(E5:E1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615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eam Avera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=AVERAGE(B5:B1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=AVERAGE(C5:C1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=AVERAGE(D5:D1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=AVERAGE(E5:E1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Create a Microsoft Access databas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 edit, sort,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rmat and</a:t>
            </a: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 create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bels, etc.</a:t>
            </a: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rcRect l="11669" t="21110" r="19170" b="155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Create Microsoft Publisher documen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39" name="Picture 4" descr="j0215217"/>
          <p:cNvPicPr/>
          <p:nvPr/>
        </p:nvPicPr>
        <p:blipFill>
          <a:blip r:embed="rId1"/>
          <a:stretch/>
        </p:blipFill>
        <p:spPr>
          <a:xfrm>
            <a:off x="5943600" y="3962520"/>
            <a:ext cx="1976400" cy="20336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5" descr="j0285636"/>
          <p:cNvPicPr/>
          <p:nvPr/>
        </p:nvPicPr>
        <p:blipFill>
          <a:blip r:embed="rId2"/>
          <a:stretch/>
        </p:blipFill>
        <p:spPr>
          <a:xfrm>
            <a:off x="380880" y="533520"/>
            <a:ext cx="1814760" cy="160488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6" descr="j0238147"/>
          <p:cNvPicPr/>
          <p:nvPr/>
        </p:nvPicPr>
        <p:blipFill>
          <a:blip r:embed="rId3"/>
          <a:stretch/>
        </p:blipFill>
        <p:spPr>
          <a:xfrm>
            <a:off x="3352680" y="533520"/>
            <a:ext cx="2549520" cy="164124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7" descr="MCj02868330000[1]"/>
          <p:cNvPicPr/>
          <p:nvPr/>
        </p:nvPicPr>
        <p:blipFill>
          <a:blip r:embed="rId4"/>
          <a:stretch/>
        </p:blipFill>
        <p:spPr>
          <a:xfrm>
            <a:off x="1676520" y="3962520"/>
            <a:ext cx="1555560" cy="157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Save and retrieve information appropriately from personal folder or web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44" name="Picture 4" descr="j0237458"/>
          <p:cNvPicPr/>
          <p:nvPr/>
        </p:nvPicPr>
        <p:blipFill>
          <a:blip r:embed="rId1"/>
          <a:stretch/>
        </p:blipFill>
        <p:spPr>
          <a:xfrm>
            <a:off x="5257800" y="4191120"/>
            <a:ext cx="2478240" cy="221904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5" descr="j0285456"/>
          <p:cNvPicPr/>
          <p:nvPr/>
        </p:nvPicPr>
        <p:blipFill>
          <a:blip r:embed="rId2"/>
          <a:stretch/>
        </p:blipFill>
        <p:spPr>
          <a:xfrm>
            <a:off x="1219320" y="3200400"/>
            <a:ext cx="181296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TextBox 1"/>
          <p:cNvSpPr/>
          <p:nvPr/>
        </p:nvSpPr>
        <p:spPr>
          <a:xfrm>
            <a:off x="304920" y="38088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Use free downloadable software and  web 2.0 tools  when appropriate to enhance learning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TextBox 2"/>
          <p:cNvSpPr/>
          <p:nvPr/>
        </p:nvSpPr>
        <p:spPr>
          <a:xfrm>
            <a:off x="1295280" y="380880"/>
            <a:ext cx="67820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cratch – animation program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udacity – Sound Recorder – maximum of 8 overlapping sound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x Type/Pai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oogle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arth – virtual 3 D map of Earth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ocs  - offer free use of word processing, spreadsheet and  presentation  software (only for students with email address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TextBox 1"/>
          <p:cNvSpPr/>
          <p:nvPr/>
        </p:nvSpPr>
        <p:spPr>
          <a:xfrm>
            <a:off x="0" y="0"/>
            <a:ext cx="9144000" cy="7103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e5"/>
                </a:solidFill>
                <a:latin typeface="Arial"/>
                <a:ea typeface="Arial"/>
              </a:rPr>
              <a:t>Visit my website at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99"/>
                </a:solidFill>
                <a:uFillTx/>
                <a:latin typeface="Arial"/>
                <a:ea typeface="Arial"/>
                <a:hlinkClick r:id="rId1"/>
              </a:rPr>
              <a:t>http://mrspmartin.wikispaces.com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12" name="Picture 4" descr=""/>
          <p:cNvPicPr/>
          <p:nvPr/>
        </p:nvPicPr>
        <p:blipFill>
          <a:blip r:embed="rId2"/>
          <a:srcRect l="0" t="0" r="10982" b="0"/>
          <a:stretch/>
        </p:blipFill>
        <p:spPr>
          <a:xfrm>
            <a:off x="0" y="1295280"/>
            <a:ext cx="9144000" cy="577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0492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roduce and reinforce</a:t>
            </a: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asic </a:t>
            </a: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skill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Learn about search engines on the Internet to narrow down a topic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0" name="Text Box 4"/>
          <p:cNvSpPr/>
          <p:nvPr/>
        </p:nvSpPr>
        <p:spPr>
          <a:xfrm>
            <a:off x="685800" y="838080"/>
            <a:ext cx="2743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Comic Sans MS"/>
                <a:hlinkClick r:id="rId1"/>
              </a:rPr>
              <a:t>Yahoo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1" name="Text Box 5"/>
          <p:cNvSpPr/>
          <p:nvPr/>
        </p:nvSpPr>
        <p:spPr>
          <a:xfrm>
            <a:off x="2590920" y="609480"/>
            <a:ext cx="327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Comic Sans MS"/>
                <a:hlinkClick r:id="rId2"/>
              </a:rPr>
              <a:t>B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2" name="Text Box 6"/>
          <p:cNvSpPr/>
          <p:nvPr/>
        </p:nvSpPr>
        <p:spPr>
          <a:xfrm>
            <a:off x="3124080" y="1828800"/>
            <a:ext cx="2667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Comic Sans MS"/>
                <a:hlinkClick r:id="rId3"/>
              </a:rPr>
              <a:t>Googl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3" name="Text Box 9"/>
          <p:cNvSpPr/>
          <p:nvPr/>
        </p:nvSpPr>
        <p:spPr>
          <a:xfrm>
            <a:off x="6095880" y="1143000"/>
            <a:ext cx="1905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Comic Sans MS"/>
                <a:hlinkClick r:id="rId4"/>
              </a:rPr>
              <a:t>Askjeev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4" name="Text Box 10"/>
          <p:cNvSpPr/>
          <p:nvPr/>
        </p:nvSpPr>
        <p:spPr>
          <a:xfrm>
            <a:off x="5029200" y="5410080"/>
            <a:ext cx="2286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Comic Sans MS"/>
                <a:hlinkClick r:id="rId5"/>
              </a:rPr>
              <a:t>Dogpil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Investigate the validity of information presented in Web sit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Cite references from electronic sourc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7" name="Line 11"/>
          <p:cNvSpPr/>
          <p:nvPr/>
        </p:nvSpPr>
        <p:spPr>
          <a:xfrm flipH="1">
            <a:off x="6248160" y="13716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58" name="Group 13"/>
          <p:cNvGrpSpPr/>
          <p:nvPr/>
        </p:nvGrpSpPr>
        <p:grpSpPr>
          <a:xfrm>
            <a:off x="533520" y="609480"/>
            <a:ext cx="7619400" cy="2577960"/>
            <a:chOff x="533520" y="609480"/>
            <a:chExt cx="7619400" cy="2577960"/>
          </a:xfrm>
        </p:grpSpPr>
        <p:sp>
          <p:nvSpPr>
            <p:cNvPr id="1159" name="Rectangle 4"/>
            <p:cNvSpPr/>
            <p:nvPr/>
          </p:nvSpPr>
          <p:spPr>
            <a:xfrm>
              <a:off x="1461240" y="1523880"/>
              <a:ext cx="61286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emelson-MIT Program,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Hazel Bishop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, January 18, 2006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ff99"/>
                  </a:solidFill>
                  <a:uFillTx/>
                  <a:latin typeface="Comic Sans MS"/>
                  <a:hlinkClick r:id="rId1"/>
                </a:rPr>
                <a:t>http://web.mit.edu/invent/iow/bishop.html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0" name="Text Box 5"/>
            <p:cNvSpPr/>
            <p:nvPr/>
          </p:nvSpPr>
          <p:spPr>
            <a:xfrm>
              <a:off x="533520" y="609480"/>
              <a:ext cx="159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Comic Sans MS"/>
                </a:rPr>
                <a:t>Corporation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1" name="Text Box 6"/>
            <p:cNvSpPr/>
            <p:nvPr/>
          </p:nvSpPr>
          <p:spPr>
            <a:xfrm>
              <a:off x="4190760" y="7617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Comic Sans MS"/>
                </a:rPr>
                <a:t>title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2" name="Text Box 7"/>
            <p:cNvSpPr/>
            <p:nvPr/>
          </p:nvSpPr>
          <p:spPr>
            <a:xfrm>
              <a:off x="6172200" y="990360"/>
              <a:ext cx="198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Comic Sans MS"/>
                </a:rPr>
                <a:t>Date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Comic Sans MS"/>
                </a:rPr>
                <a:t>accessed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3" name="Text Box 8"/>
            <p:cNvSpPr/>
            <p:nvPr/>
          </p:nvSpPr>
          <p:spPr>
            <a:xfrm>
              <a:off x="2514600" y="2819160"/>
              <a:ext cx="281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Comic Sans MS"/>
                </a:rPr>
                <a:t>Internet address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4" name="Line 9"/>
            <p:cNvSpPr/>
            <p:nvPr/>
          </p:nvSpPr>
          <p:spPr>
            <a:xfrm>
              <a:off x="1676160" y="990360"/>
              <a:ext cx="68544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5" name="Line 10"/>
            <p:cNvSpPr/>
            <p:nvPr/>
          </p:nvSpPr>
          <p:spPr>
            <a:xfrm>
              <a:off x="4572000" y="106668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6" name="Line 12"/>
            <p:cNvSpPr/>
            <p:nvPr/>
          </p:nvSpPr>
          <p:spPr>
            <a:xfrm flipV="1">
              <a:off x="3352680" y="2285640"/>
              <a:ext cx="53316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ff"/>
                </a:solidFill>
                <a:latin typeface="Times New Roman"/>
              </a:rPr>
              <a:t>The knowledge gained from these objectives will be used in student created projects and presentations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sz="3200" spc="-1" strike="noStrike">
                <a:solidFill>
                  <a:srgbClr val="ffffff"/>
                </a:solidFill>
                <a:latin typeface="Times New Roman"/>
              </a:rPr>
              <a:t>tudents will apply these principles to other subject areas. We want to make computers an enjoyable learning experience for all student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Students are expected to follow the classroom expectations as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viously reviewed in class</a:t>
            </a: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.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69" name="Picture 4" descr="j0311866"/>
          <p:cNvPicPr/>
          <p:nvPr/>
        </p:nvPicPr>
        <p:blipFill>
          <a:blip r:embed="rId1"/>
          <a:stretch/>
        </p:blipFill>
        <p:spPr>
          <a:xfrm>
            <a:off x="3581280" y="4724280"/>
            <a:ext cx="181476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440" y="1752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uter Education</a:t>
            </a:r>
            <a:br>
              <a:rPr sz="4000"/>
            </a:br>
            <a:br>
              <a:rPr sz="4000"/>
            </a:b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Teache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 Mrs. Marti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4" name="Rectangle 3"/>
          <p:cNvSpPr/>
          <p:nvPr/>
        </p:nvSpPr>
        <p:spPr>
          <a:xfrm>
            <a:off x="2743200" y="0"/>
            <a:ext cx="457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isit my website at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ttp://mrspmartin.wikispaces.com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5228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The Following Objectives Will Be Covered This Year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6840" y="304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Complete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yping </a:t>
            </a:r>
            <a:br>
              <a:rPr sz="4000"/>
            </a:b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to a level later to be determined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17" name="j0289582.jpg" descr=""/>
          <p:cNvPicPr/>
          <p:nvPr/>
        </p:nvPicPr>
        <p:blipFill>
          <a:blip r:embed="rId1"/>
          <a:stretch/>
        </p:blipFill>
        <p:spPr>
          <a:xfrm>
            <a:off x="5638680" y="380880"/>
            <a:ext cx="250848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1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1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19" name="Picture 3" descr=""/>
          <p:cNvPicPr/>
          <p:nvPr/>
        </p:nvPicPr>
        <p:blipFill>
          <a:blip r:embed="rId1"/>
          <a:srcRect l="18336" t="17778" r="18336" b="17778"/>
          <a:stretch/>
        </p:blipFill>
        <p:spPr>
          <a:xfrm>
            <a:off x="304920" y="114480"/>
            <a:ext cx="8610480" cy="657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2"/>
          <p:cNvSpPr/>
          <p:nvPr/>
        </p:nvSpPr>
        <p:spPr>
          <a:xfrm>
            <a:off x="0" y="838080"/>
            <a:ext cx="807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Sand"/>
                <a:ea typeface="Times New Roman"/>
              </a:rPr>
              <a:t>Become acquainted with ribbons in Microsoft Word 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e</a:t>
            </a: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 Microsoft Word </a:t>
            </a:r>
            <a:br>
              <a:rPr sz="4400"/>
            </a:b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processing documen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 following </a:t>
            </a:r>
            <a:br>
              <a:rPr sz="4400"/>
            </a:b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specific written directions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22" name="Picture 4" descr="MCj02325870000[1]"/>
          <p:cNvPicPr/>
          <p:nvPr/>
        </p:nvPicPr>
        <p:blipFill>
          <a:blip r:embed="rId1"/>
          <a:stretch/>
        </p:blipFill>
        <p:spPr>
          <a:xfrm>
            <a:off x="5181480" y="3505320"/>
            <a:ext cx="3381480" cy="26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Create PowerPoin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slide show using toolbars, inserting textboxes, pictures, and formatting slid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24" name="Picture 6" descr="j0283804"/>
          <p:cNvPicPr/>
          <p:nvPr/>
        </p:nvPicPr>
        <p:blipFill>
          <a:blip r:embed="rId1"/>
          <a:stretch/>
        </p:blipFill>
        <p:spPr>
          <a:xfrm>
            <a:off x="4724280" y="4191120"/>
            <a:ext cx="1943280" cy="1743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8T16:57:03Z</dcterms:created>
  <dc:creator>PMartin</dc:creator>
  <dc:description/>
  <dc:language>en-US</dc:language>
  <cp:lastModifiedBy>Patricia Martin</cp:lastModifiedBy>
  <dcterms:modified xsi:type="dcterms:W3CDTF">2012-08-20T01:32:50Z</dcterms:modified>
  <cp:revision>32</cp:revision>
  <dc:subject/>
  <dc:title>     </dc:title>
</cp:coreProperties>
</file>